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3AB3-E696-4F65-BB85-CFBD8337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FBA-1BE8-4CE5-BC55-6225DFFAFE12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7030-0489-4FE4-B33A-A754154BDA64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6908-EE09-471D-9E49-424A98D49547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256-A568-4E0F-9CA9-803847D9E1B8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B5BC-A99D-42B5-B134-203C384A7E2F}" type="slidenum">
              <a:rPr b="0" lang="en-US" sz="1200" spc="-1" strike="noStrike">
                <a:solidFill>
                  <a:srgbClr val="00b8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CC0-8F97-4FE6-BB33-461B40C8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256-1804-441C-81B8-0947E252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DE9-6F52-4E6F-AE12-04A8179C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CD1-7C0A-4F4F-BDDC-45CC07C7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6B5-BD36-4D92-A680-865A69E9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C4B-5A1A-4C8A-BCEC-C48FC599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668-58C8-4433-81B7-350C6AE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B90-2A16-4B40-8EB2-797165A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EC3-A9C4-433E-9B89-86EA2C5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946-8C91-48FA-96E8-28D1507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A7F-27CE-49C1-9004-BE03E02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44E-D473-45B2-9F38-19BCA4DB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b8e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e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8ef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031-24B6-4788-A54F-FB30AC1DE652}" type="slidenum">
              <a:rPr b="0" lang="en-US" sz="1400" spc="-1" strike="noStrike">
                <a:solidFill>
                  <a:srgbClr val="00b8ef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p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r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a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i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n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 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a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n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d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 B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r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u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i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r>
              <a:rPr b="0" lang="en-US" sz="6500" spc="-1" strike="noStrike">
                <a:solidFill>
                  <a:srgbClr val="c90827"/>
                </a:solidFill>
                <a:latin typeface="Century Gothic"/>
              </a:rPr>
              <a:t>e</a:t>
            </a:r>
            <a:r>
              <a:rPr b="0" lang="en-US" sz="6500" spc="-1" strike="noStrike">
                <a:solidFill>
                  <a:srgbClr val="1100b0"/>
                </a:solidFill>
                <a:latin typeface="Century Gothic"/>
              </a:rPr>
              <a:t>s</a:t>
            </a:r>
            <a:endParaRPr b="0" lang="en-US" sz="65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0b0"/>
                </a:solidFill>
                <a:latin typeface="Century Gothic"/>
              </a:rPr>
              <a:t>By Kenzie McBride</a:t>
            </a:r>
            <a:endParaRPr b="0" lang="en-US" sz="3200" spc="-1" strike="noStrike">
              <a:solidFill>
                <a:srgbClr val="00b8ef"/>
              </a:solidFill>
              <a:latin typeface="Century Gothic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3880" y="3581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pic>
        <p:nvPicPr>
          <p:cNvPr id="53" name="Madagascar - Exit Windows.wav" descr=""/>
          <p:cNvPicPr/>
          <p:nvPr/>
        </p:nvPicPr>
        <p:blipFill>
          <a:blip r:embed="rId2"/>
          <a:stretch/>
        </p:blipFill>
        <p:spPr>
          <a:xfrm>
            <a:off x="0" y="6608880"/>
            <a:ext cx="249120" cy="24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72072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00b0"/>
                </a:solidFill>
                <a:latin typeface="Century Gothic"/>
              </a:rPr>
              <a:t>What is a Sprain?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90827"/>
                </a:solidFill>
                <a:latin typeface="Century Gothic"/>
              </a:rPr>
              <a:t>When a joint is suddenly or violently stretched</a:t>
            </a:r>
            <a:endParaRPr b="0" lang="en-US" sz="33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117000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00b0"/>
                </a:solidFill>
                <a:latin typeface="Century Gothic"/>
              </a:rPr>
              <a:t>What is a Bruise?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90827"/>
                </a:solidFill>
                <a:latin typeface="Century Gothic"/>
              </a:rPr>
              <a:t>A blow to the part of the body</a:t>
            </a:r>
            <a:endParaRPr b="0" lang="en-US" sz="3300" spc="-1" strike="noStrike">
              <a:solidFill>
                <a:srgbClr val="00b8ef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00b0"/>
                </a:solidFill>
                <a:latin typeface="Century Gothic"/>
              </a:rPr>
              <a:t>How to treat a Sprain or Bruise…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Do </a:t>
            </a:r>
            <a:r>
              <a:rPr b="0" i="1" lang="en-US" sz="2800" spc="-1" strike="noStrike">
                <a:solidFill>
                  <a:srgbClr val="c90827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 use the sprained or bruised area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Elevate the sprained or bruised part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Apply cold packs for the first 24 hours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c90827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827"/>
                </a:solidFill>
                <a:latin typeface="Century Gothic"/>
              </a:rPr>
              <a:t>If pain and swelling do not stop, see a doctor </a:t>
            </a:r>
            <a:endParaRPr b="0" lang="en-US" sz="28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68" name="owww.wav" descr=""/>
          <p:cNvPicPr/>
          <p:nvPr/>
        </p:nvPicPr>
        <p:blipFill>
          <a:blip r:embed="rId2"/>
          <a:stretch/>
        </p:blipFill>
        <p:spPr>
          <a:xfrm>
            <a:off x="0" y="6608880"/>
            <a:ext cx="249120" cy="249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8e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00b0"/>
                </a:solidFill>
                <a:latin typeface="Century Gothic"/>
              </a:rPr>
              <a:t>This is why we need to have healthy bones so sprains and bruises don’t happen!</a:t>
            </a:r>
            <a:endParaRPr b="0" lang="en-US" sz="4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28600" y="3657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0827"/>
                </a:solidFill>
                <a:latin typeface="Century Gothic"/>
              </a:rPr>
              <a:t>So, DRINK MILK!!</a:t>
            </a:r>
            <a:endParaRPr b="0" lang="en-US" sz="5000" spc="-1" strike="noStrike">
              <a:solidFill>
                <a:srgbClr val="00b8ef"/>
              </a:solidFill>
              <a:latin typeface="Century Gothic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377720" cy="137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55:16Z</dcterms:created>
  <dc:creator>Pie Guy</dc:creator>
  <dc:description/>
  <dc:language>en-US</dc:language>
  <cp:lastModifiedBy>Pie Guy</cp:lastModifiedBy>
  <dcterms:modified xsi:type="dcterms:W3CDTF">2011-05-25T16:05:59Z</dcterms:modified>
  <cp:revision>9</cp:revision>
  <dc:subject/>
  <dc:title>Sprains and Bruises</dc:title>
</cp:coreProperties>
</file>